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DC0-CA5F-426C-95DA-29E0D7BA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3DD-DFEA-4FD4-9E34-4375048A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967-CE57-4598-90DA-F06C2FB5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0A9-358F-436D-BEF6-B8515839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D2FF-4C38-416D-A722-B416E173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1A97-B6D6-412A-A786-00862505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BB25-FF66-4329-8C19-C8C2B096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092D-0A51-4734-B2B2-F43FDE25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1104-C702-44B3-A3FD-F3042878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0ABE-44F3-4BD5-A9AB-1C3D4B71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66D4-26FB-4C46-B608-BBEF2B11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824-7D19-4403-9F78-70CD2832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F01B-5871-42D2-9B6B-089E4D65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37DD-9B5C-456E-A272-5C484D98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0AA8-F678-49CF-AA0B-01A9777C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6C54-4041-444E-BEB1-C88C1CAF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9173-DF2B-42B4-9F4A-10DE1C7A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72C-A050-4842-89F1-DB5F2BB7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D2E-45FF-4B79-8E6B-85A2F4D6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3F2C-FC01-461A-8E89-72AE5650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12E-EB99-49F6-ACD4-0DCCF667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E8B-0012-44A7-A4F2-BB3AB056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115-C577-4FBD-8A00-780FEBC8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EC0-C0B6-4171-8CD0-7C0D2EA4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A508-7830-4E3F-A873-7944E57CF38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D3C6-608C-4A84-9F61-3A786B4A01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8" descr="LOGO"/>
          <p:cNvPicPr/>
          <p:nvPr/>
        </p:nvPicPr>
        <p:blipFill>
          <a:blip r:embed="rId3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Picture 8" descr="LOGO"/>
          <p:cNvPicPr/>
          <p:nvPr/>
        </p:nvPicPr>
        <p:blipFill>
          <a:blip r:embed="rId3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1747-519B-4006-9C9E-5F24B7CAE84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914C-2D5D-4F2F-8E1D-64B55833B7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ublic-republic.com/wp-content/uploads/2008/03/dete_10.jpg&amp;imgrefurl=http://www.public-republic.com/magazine/2008/03/1244.php&amp;usg=__paa5I-1FIsVsPxcP-DUsbw5Z_B4=&amp;h=500&amp;w=402&amp;sz=70&amp;hl=en&amp;start=24&amp;zoom=1&amp;itbs=1&amp;tbnid=cGMiuQGF1EeGGM:&amp;tbnh=130&amp;tbnw=105&amp;prev=/images%3Fq%3Ddete%26start%3D20%26hl%3Den%26sa%3DN%26gbv%3D2%26ndsp%3D20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ilirubin" TargetMode="External"/><Relationship Id="rId2" Type="http://schemas.openxmlformats.org/officeDocument/2006/relationships/hyperlink" Target="http://en.wikipedia.org/wiki/Serum_albumin" TargetMode="External"/><Relationship Id="rId3" Type="http://schemas.openxmlformats.org/officeDocument/2006/relationships/hyperlink" Target="http://en.wikipedia.org/wiki/Prothrombin_time#International_normalized_ratio" TargetMode="External"/><Relationship Id="rId4" Type="http://schemas.openxmlformats.org/officeDocument/2006/relationships/hyperlink" Target="http://en.wikipedia.org/wiki/Ascites" TargetMode="External"/><Relationship Id="rId5" Type="http://schemas.openxmlformats.org/officeDocument/2006/relationships/hyperlink" Target="http://en.wikipedia.org/wiki/Hepatic_encephalopathy" TargetMode="External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altanoticiassalta.com/UserFiles/Image/bebaSorprendid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gsmesite.org/ngarkimet/fajllat/beba.jpg&amp;imgrefurl=http://www.gsmesite.org/index.php%3Fgj%3D2&amp;usg=__-XVx4LEF_cJw09LFViQr-r9SO3w=&amp;h=583&amp;w=583&amp;sz=46&amp;hl=en&amp;start=1&amp;zoom=1&amp;itbs=1&amp;tbnid=h1ABA-27xWmvgM:&amp;tbnh=134&amp;tbnw=134&amp;prev=/images%3Fq%3Dbeba%26hl%3Den%26sa%3DG%26gbv%3D2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9D1B-7E82-4707-8710-D81D7645B6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3068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2060"/>
                </a:solidFill>
                <a:latin typeface="Verdana"/>
              </a:rPr>
              <a:t>Клиничка фармација 1</a:t>
            </a:r>
            <a:br>
              <a:rPr sz="2100"/>
            </a:br>
            <a:r>
              <a:rPr b="1" lang="sr-CS" sz="2100" spc="-1" strike="noStrike">
                <a:solidFill>
                  <a:srgbClr val="002060"/>
                </a:solidFill>
                <a:latin typeface="Verdana"/>
              </a:rPr>
              <a:t>Предавање бр.3</a:t>
            </a:r>
            <a:br>
              <a:rPr sz="2100"/>
            </a:br>
            <a:br>
              <a:rPr sz="2100"/>
            </a:br>
            <a:r>
              <a:rPr b="1" lang="sr-CS" sz="2100" spc="-1" strike="noStrike">
                <a:solidFill>
                  <a:srgbClr val="002060"/>
                </a:solidFill>
                <a:latin typeface="Verdana"/>
              </a:rPr>
              <a:t>ФАРМАКОТЕРАПИЈА СПЕЦИФИЧНИХ ГРУПАЦИЈА ПОПУЛАЦИЈЕ</a:t>
            </a:r>
            <a:br>
              <a:rPr sz="2100"/>
            </a:br>
            <a:r>
              <a:rPr b="1" lang="sr-CS" sz="2100" spc="-1" strike="noStrike">
                <a:solidFill>
                  <a:srgbClr val="002060"/>
                </a:solidFill>
                <a:latin typeface="Verdana"/>
              </a:rPr>
              <a:t>основни принцип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340000" y="11970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тегрисане студије фармациј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A13F-19F5-4D75-A2D3-AC14D0AE404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4CE8-8CB1-4F78-BA80-E0F4C2581A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У неонаталном узрасту постоји могућност да одређене ендогене супстанце (билурубин), буду од стране неких лекова истиснути из везе са албуминима и да се потенцирају нежељени ефекти повишеног нивоа билирубина, са повећањем у нижој гестационој старости дете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CC40-0460-41BF-BDC0-9AA90EE71D3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9D45-F225-476B-86DA-379FD1F6AB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001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Verdana"/>
              </a:rPr>
              <a:t>Период одојчета и малог детета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Овај период карактерише сазревање екскреторних механизама и органа који учествују у метаболизму лекова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Интензитет сазревања добрим делом је одређен узрастом, из тог разлога, у овом периоду је потребно пажљиво адаптирање доза лекова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Неки лекови у овом периоду развоја детета, имају већи клиренс, него код одраслих (нпр.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фенобарбитал, фенитоин, карбамазепин, теофилин), због ефикасне микрозомалне оксидације у јетри, па се и због тога у овом узрасту, ови лекови дају у већим дозама него код одраслих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Други лекови имају успоренију елиминацију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Додатно, њихову елиминацију могу да успоре тешка болест, која компромитује функцију елиминаторних орган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F869-D804-4B55-B88C-66594FF9B59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10C8-2ACA-4169-895C-030697C9BF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6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Verdana"/>
              </a:rPr>
              <a:t>Деца предшколског, школског узраста и адолесцен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1239480" indent="0">
              <a:spcBef>
                <a:spcPts val="524"/>
              </a:spcBef>
              <a:spcAft>
                <a:spcPts val="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Ова широка група испољава, у погледу примене лекова, </a:t>
            </a:r>
            <a:r>
              <a:rPr b="1" lang="fr-FR" sz="2600" spc="-1" strike="noStrike">
                <a:solidFill>
                  <a:srgbClr val="000000"/>
                </a:solidFill>
                <a:latin typeface="Verdana"/>
              </a:rPr>
              <a:t>специфичност више у погледу прихватања терапије</a:t>
            </a: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 него у погледу фармакокинетике и фармакодинамике, при чему се, у погледу мерљивих параметара, приближавају одраслим особам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У практичном погледу, индивидуализација доза примењује се код деце млађе од 12 годи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dete_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3276720"/>
            <a:ext cx="160020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ED49-1B20-4BF6-ADC0-148F6E14F1E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BFAE-23DF-489C-84CB-D39612587B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Узраст млађе деце захтева потребу прилагођавања и фармацеутског облика лека (потреба за сирупима, таблетама и капсулама у различитим дозама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Осим тога, облици сирупа, пожељно је да не садрже шећере, ради профилаксе каријеса, посебно у ситуацијама хроничне употребе леков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DCD9-5BBF-4E5E-8E9C-7321F8F26A8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76E6-CD19-43FC-B794-60A9684FFE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Verdana"/>
              </a:rPr>
              <a:t>Израчунавање дозе лекова код деце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0010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Када доза код деце није претходним фармаколошким испитивањима утврђена, онда се она израчунава на основу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познате дозе лека код одраслих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узраста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телесне тежине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телесне површине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или комбинацијом свих ових фактор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BB87-4893-4908-B588-B4C9DD4D8D8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9B3C-2231-45A5-8C9E-D57F98A460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Verdana"/>
              </a:rPr>
              <a:t>Израчунавање дозе лекова код деце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2565360"/>
            <a:ext cx="80010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У израчунавању доза код деце, треба знати и како извршити редукцију дозе, уколико постоји ограничење елиминације лека. Посебно је потребна пажња уколико се кори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те лекови са уском терапијском ширином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0CB2-AE09-400F-891B-C642AA20A6B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8FCE-45B7-4D25-AC4E-422AFF92AB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Verdana"/>
              </a:rPr>
              <a:t>Израчунавање дозе лекова код деце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Прва терапијска доза је стандардна, а приликом одлучивања за другу дозу, треба вршити корекциј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Корекција се може учинити на два начина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Продужењем интервала примена лека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. Када су у питању антимикробни лекови, овај приступ није подесан због могућности да при крају интервала дође до пада нивоа ефикасне концентрације антибиотика и започињања новог развојног циклуса бактериј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. Други начин је: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редукција дозе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на основу нивоа креатинина у крв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60B3-3195-411F-89BC-E7998882D19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AFA8-E25C-452E-A917-10CCD4571F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Verdana"/>
              </a:rPr>
              <a:t>Избор лекова у отклањању фебрилности и терапија бола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896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Фебрилност није увек синоним болести, поготову не њене озбиљности (нпр. новорођенчад могу бити хипотермична у стањима сепсе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Фебрилност медикаментима </a:t>
            </a: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треба лечити само у ситуацијама када је изузетно висока, преко 39,5°Ц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и када је праћена симптомима дрхтавице, убрзаног дисања и пулса, малаксалошчу дете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Други разлог примене антипиретика може бити склоност детета да, при повишеној температури, испољи конвулзије, тзв."фрас"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C5C0-AB07-4F0E-A010-603F5727850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3CCE-8833-4D59-B590-AB9EB7EA8D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64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Парацетамол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је најшире употребљаван лек у отклањању фебрилности, а притом има и добар аналгетски ефека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во је данас уједно и најбезбеднији антипиретик, под условом адекватног дозирањ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Иницијална ударна доза је 15 мг/кг, а затим на 4-6 сати давати у дози од 10 мг/кг пер о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У случају прекорачења дозе од 10-20 пута, постоји опасност од оштећења јетр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CC43-7B71-49A8-A971-1BFE17635E8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C995-8032-48B5-8BDC-DD3D8B1F37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Ибупрофе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је, такође, доста широко употребљаван антипиретик, са добрим антинфламаторним својствим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Појединачна доза је 7 мг/кг, а примењује се на 8 сати, не чешћ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Испољава ефикасност сличну ацетилсалицилној киселини, али са мање нежељених ефека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2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A89A-23B0-4365-A032-670D8CEC7AF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8C52-68D2-416D-9E85-9F30F25FAE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2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 ли смо сви исти 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286000" y="2546280"/>
            <a:ext cx="457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39720" y="3368520"/>
            <a:ext cx="853452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 ли нам је свима потребна иста доза лека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Потребно је прилагодити терапију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A1B3-49C1-4E94-BAAF-0353D74A00B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62D7-8DE6-4E85-985B-4EF97915D3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Ацетилсалицилна киселина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 или аспирин је лек чију употебу у терапији повишене температуре, код деце, треба заборавит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Примена аспирина оправдана је код хроничних реуматских обољења уз строги надзор лекара реуматолог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 u="sng">
                <a:solidFill>
                  <a:srgbClr val="000000"/>
                </a:solidFill>
                <a:uFillTx/>
                <a:latin typeface="Verdana"/>
              </a:rPr>
              <a:t>Нежељени ефекти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 у инфекцијама изазваним вирусима инфлуенце или варичеле могу се испољити оштећењем јетре удруженим са енцефалопатијом, стање познато као </a:t>
            </a: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Реy-ов синдром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е примењује се код деце малђе од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16 година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зузетак превенција тромбозе у кардиохиругији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18D9-EAD6-4C20-B0BF-FC367239505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2C75-CC56-4C77-9BCF-7D53E9C551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спирин може изазвати неугодне гастроинтестиналне последице, све до озбиљног крва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ења из дигестивног тракт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Аспирин може индуковати "аспиринску астму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Аспирин утиче на коагулацију крви, па је његова примена опасна, посебно, уколико је неопходна хируршка интервенциј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Када је неопходан, аспирин треба применити у дози од 20-30 мг/кг/дневно подељено на 8 сат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Под контролом реуматолога у посебним индикацијама, доза може бити и знатно већ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BE0D-46ED-4D8F-903C-14875989ECD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769D-7DF0-487B-844C-9B49998458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Није оправдана примен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600" spc="-1" strike="noStrike">
                <a:solidFill>
                  <a:srgbClr val="000000"/>
                </a:solidFill>
                <a:latin typeface="Verdana"/>
              </a:rPr>
              <a:t>пиразолонских деривата</a:t>
            </a: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 у антипиретске и аналгетске сврхе, због опасности од изазивања агранулоцитозе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Такав злоупотребљен лек је </a:t>
            </a:r>
            <a:r>
              <a:rPr b="1" lang="fr-FR" sz="2600" spc="-1" strike="noStrike">
                <a:solidFill>
                  <a:srgbClr val="000000"/>
                </a:solidFill>
                <a:latin typeface="Verdana"/>
              </a:rPr>
              <a:t>метамизол </a:t>
            </a: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(Аналгин, Новалгетол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 терапији код деце треба избегавати и лекове који у свом саставу имају метамизо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6407-998C-4CF6-8BE2-0B09FE19396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2B78-719C-4224-A323-49E0026878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O</a:t>
            </a: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ing the healthcare, procurement and pharmaceutical communities with information on dosage and treatment guidelines through the development of the WHO Model Formulary for Children containing independent prescriber information on over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240 medicin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ased on the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WHO Model List of Essential Medicines for Childre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first developed in 2007 and reviewed and updated every two yea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20th WHO Model List of Essential Medicines (March 2017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6th WHO Model List of Essential Medicines for Children 2017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2060"/>
                </a:solidFill>
                <a:latin typeface="Verdana"/>
              </a:rPr>
              <a:t>Поред нових лекова на листи уведена је и нова категоризација антимикробних ле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2060"/>
                </a:solidFill>
                <a:latin typeface="Verdana"/>
              </a:rPr>
              <a:t>ACCESS</a:t>
            </a:r>
            <a:r>
              <a:rPr b="0" lang="sr-Latn-RS" sz="2000" spc="-1" strike="noStrike">
                <a:solidFill>
                  <a:srgbClr val="002060"/>
                </a:solidFill>
                <a:latin typeface="Verdana"/>
              </a:rPr>
              <a:t> – </a:t>
            </a:r>
            <a:r>
              <a:rPr b="0" lang="sr-RS" sz="2000" spc="-1" strike="noStrike">
                <a:solidFill>
                  <a:srgbClr val="002060"/>
                </a:solidFill>
                <a:latin typeface="Verdana"/>
              </a:rPr>
              <a:t>1. и 2. избор антибиотика за емпиријско лечење најчешћих инфекција ;</a:t>
            </a:r>
            <a:r>
              <a:rPr b="0" lang="sr-Latn-RS" sz="20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2060"/>
                </a:solidFill>
                <a:latin typeface="Verdana"/>
              </a:rPr>
              <a:t>WATCH</a:t>
            </a:r>
            <a:r>
              <a:rPr b="0" lang="sr-Latn-RS" sz="2000" spc="-1" strike="noStrike">
                <a:solidFill>
                  <a:srgbClr val="002060"/>
                </a:solidFill>
                <a:latin typeface="Verdana"/>
              </a:rPr>
              <a:t> – </a:t>
            </a:r>
            <a:r>
              <a:rPr b="0" lang="sr-RS" sz="2000" spc="-1" strike="noStrike">
                <a:solidFill>
                  <a:srgbClr val="002060"/>
                </a:solidFill>
                <a:latin typeface="Verdana"/>
              </a:rPr>
              <a:t>антибиотици са високим потенцијалом за развој резистенције употребу  1.и 2. избора ограничити на мали број синдрома или пацијената </a:t>
            </a:r>
            <a:r>
              <a:rPr b="0" lang="sr-Latn-RS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2060"/>
                </a:solidFill>
                <a:latin typeface="Verdana"/>
              </a:rPr>
              <a:t>RESERVE </a:t>
            </a:r>
            <a:r>
              <a:rPr b="0" lang="sr-Latn-RS" sz="2000" spc="-1" strike="noStrike">
                <a:solidFill>
                  <a:srgbClr val="002060"/>
                </a:solidFill>
                <a:latin typeface="Verdana"/>
              </a:rPr>
              <a:t>– </a:t>
            </a:r>
            <a:r>
              <a:rPr b="0" lang="sr-RS" sz="2000" spc="-1" strike="noStrike">
                <a:solidFill>
                  <a:srgbClr val="002060"/>
                </a:solidFill>
                <a:latin typeface="Verdana"/>
              </a:rPr>
              <a:t>антибиотици који се користе као последња линија терапијске опције  -</a:t>
            </a:r>
            <a:r>
              <a:rPr b="0" lang="sr-Latn-RS" sz="2000" spc="-1" strike="noStrike">
                <a:solidFill>
                  <a:srgbClr val="002060"/>
                </a:solidFill>
                <a:latin typeface="Verdana"/>
              </a:rPr>
              <a:t> ‘last resort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C156-E1A7-4239-9B99-2D3584DF07A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9554-DB2D-456E-B90E-982A65EB0A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400" y="981000"/>
            <a:ext cx="889164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20th WHO Model List of Essential Medicines (Marc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2017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able 1.1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edicines with age or weight restric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7640" y="2060640"/>
            <a:ext cx="3924360" cy="4681440"/>
          </a:xfrm>
          <a:prstGeom prst="rect">
            <a:avLst/>
          </a:prstGeom>
          <a:solidFill>
            <a:srgbClr val="f2f2f2"/>
          </a:solidFill>
          <a:ln w="9360">
            <a:solidFill>
              <a:srgbClr val="a3b2c1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artesunate + pyronaridine tetraphosphate &gt; 5 k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atazanavir &gt;25 k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atropine &gt;3 month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benzyl benzoate &gt;2 yea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betamethasone topical preparations hydrocortisone preferred in neonates cefazolin &gt;1 mont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ceftriaxone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&gt;41 weeks corrected gestational ag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darunavir &gt; 3 yea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delamanid &gt; 6 years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284720" y="1988640"/>
            <a:ext cx="4751280" cy="4753080"/>
          </a:xfrm>
          <a:prstGeom prst="rect">
            <a:avLst/>
          </a:prstGeom>
          <a:solidFill>
            <a:srgbClr val="f2f2f2"/>
          </a:solidFill>
          <a:ln w="9360">
            <a:solidFill>
              <a:srgbClr val="a3b2c1"/>
            </a:solidFill>
            <a:miter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dihydroartemisinin + piperaquine phosphate &gt; 5 k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diloxanide &gt;25 kg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doxycycline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&gt;8 years (except for serious infections e.g. cholera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efavirenz &gt;3 years or &gt;10 kg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fluoxetine &gt;8 years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ibuprofen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 &gt;3 months (except IV form for patent ductus arteriosu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mefloquine &gt;5 kg or &gt;3 months metoclopramide Not in neon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nevirapine &gt; 6 weeks ondansetron &gt;1 month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Calibri"/>
              </a:rPr>
              <a:t>silver sulfadiazine &gt;2 months tetracaine Not in preterm neonates trimethoprim &gt;6 months xylometazoline &gt;3 month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0F92-F54B-4555-AD79-FCD54AE102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666A-2705-4A47-9A02-9ACBAC97399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C73D-EEF9-4FCB-B3E0-A64A2FA454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1484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ОПИСИВАЊЕ ЛЕКОВА У 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ТАРИЈЕМ ЖИВОТНОМ ДОБУ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роцене : до 2050, 80 милиона Американаца ће имати преко 65 година (23% популације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Троше 34% укупно прописаних рецепа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роблеми везани за  употребу лекова  расту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ежељене реакциј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лифармациј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екоришћење лек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еправилна употреб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B080-3DF4-4084-A9CB-F5BA7F5F17E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7C4A-61E5-47F9-B46C-BE814F3B36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ОПИСИВАЊЕ ЛЕКОВА У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ТАРИЈЕМ ЖИВОТНОМ ДОБУ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497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тарењем организма, поступно настају промене које утичу на функцију појединих орган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зиолошка - базна функција различитих органа (бубрега, јетре, плућа) тако постаје смањена и у уравнотеженим условима, док при утицају и најмањих нокси, или акутних болести, може доћи до стања манифестне инсуфицијенције ових орга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61DC-AAD3-43A4-8CB5-5C4215CC718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8EFB-CCB0-4CFF-979D-0057685A5E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ОПИСИВАЊЕ ЛЕКОВА У СТАРИЈЕМ ЖИВОТНОМ ДОБ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2707920"/>
            <a:ext cx="8388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Људи у старости често су осетљивији на велики број лекова, или тако што су фармакодинамска дејства многих лекова изражена при знатно нижим дозама, или из разлога што су нежељене реакције лекова у старости чешћ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ред тога, у старијих људи су честе различите болести, што подразумева и примену већег броја лекова који имају повећан ризи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литерапиј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твара могућност појаве интеракције лекова, што додатно може да компликује примену лекова код старијих људ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7D11-C554-443E-AC89-6534D339E27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4703-D5EB-480A-876E-DA2D653CE9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д прописивања лекова старијим људима, потребно ј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четне дозе лекова смањити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ратити пажњу на потенцијално нефро-, хепато- и хематотоксичне леков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презно примењивати лекове који делују на ЦНС, као што с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едатив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нтидепресив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иоидни аналгетиц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B082-0502-4532-BA8B-7A7985CFBAC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DA9C-5805-45B8-B0BB-E913AFC8DA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80010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ПРОПИСИВАЊЕ ЛЕКОВА У ДЕЧЈЕМ УЗРАСТУ</a:t>
            </a:r>
            <a:br>
              <a:rPr sz="2000"/>
            </a:br>
            <a:br>
              <a:rPr sz="2500"/>
            </a:br>
            <a:r>
              <a:rPr b="1" lang="sr-CS" sz="2500" spc="-1" strike="noStrike">
                <a:solidFill>
                  <a:srgbClr val="000000"/>
                </a:solidFill>
                <a:latin typeface="Verdana"/>
              </a:rPr>
              <a:t>Шта их чини посебним ???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896472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СЗО </a:t>
            </a:r>
            <a:r>
              <a:rPr b="1" lang="sr-CS" sz="1800" spc="-1" strike="noStrike">
                <a:solidFill>
                  <a:srgbClr val="c00000"/>
                </a:solidFill>
                <a:latin typeface="Calibri"/>
                <a:ea typeface="Calibri"/>
              </a:rPr>
              <a:t>(</a:t>
            </a:r>
            <a:r>
              <a:rPr b="1" lang="sr-Latn-RS" sz="1800" spc="-1" strike="noStrike">
                <a:solidFill>
                  <a:srgbClr val="c00000"/>
                </a:solidFill>
                <a:latin typeface="Calibri"/>
                <a:ea typeface="Calibri"/>
              </a:rPr>
              <a:t>WHO -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  <a:ea typeface="Calibri"/>
              </a:rPr>
              <a:t>Fact sheet , Updated September 2016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коро </a:t>
            </a:r>
            <a:r>
              <a:rPr b="1" lang="sr-Latn-RS" sz="2000" spc="-1" strike="noStrike">
                <a:solidFill>
                  <a:srgbClr val="000000"/>
                </a:solidFill>
                <a:latin typeface="Verdana"/>
              </a:rPr>
              <a:t>5,9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милиона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деце, узраста испод 5 година умире сваке године, в</a:t>
            </a: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ише од половине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због болести које могу да буду третиране безбедним ефикасним лековима</a:t>
            </a:r>
            <a:r>
              <a:rPr b="0" lang="sr-Latn-R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Verdana"/>
              </a:rPr>
              <a:t>Водећи узроци смрти у дечјем узрасту су поред компликација при рођенју пнеумонија, дијареја и маларија, 45% смртних случајева је повезано са малнутрициј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спољавају различит одгов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 на дејство лек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ало лекова постоји у формулацијама које су развијене посебно за дец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Широм света за децу се користе </a:t>
            </a:r>
            <a:r>
              <a:rPr b="0" lang="sr-CS" sz="20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off-label</a:t>
            </a:r>
            <a:r>
              <a:rPr b="0" lang="sr-CS" sz="2000" spc="-1" strike="noStrike">
                <a:solidFill>
                  <a:srgbClr val="ff0000"/>
                </a:solidFill>
                <a:latin typeface="Verdana"/>
              </a:rPr>
              <a:t>”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лекови (нису испитивани на деци , нису регистровани за примену код дец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МА, ФДА иницијатива да се побољша доступност,безбедност и ефикасност лекова за дец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1558-2CFD-4215-B380-FD78035B8CC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D14D-2A3F-43F0-863B-AD8073C82D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ФАРМАКОКИНЕТСКЕ СПЕЦИФИЧНОСТИ КОД СТАРИЈИХ ЉУДИ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2204640"/>
            <a:ext cx="80010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псорпциј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лекова у старости, најчешће, није значајно измење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ећан ГИ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може да смањи апсорпцију лекова за чију апсорпцију је потребна кисела средина (нпр. Калцијум карбонат, итраконазол, кетоконазол..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спорен мотилитет и пражњење желудца може да повећа ризик од улцерација (нпр. Аспирин, НСАИЛ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мене апсорпције трансдермалних, ИМ, субкутане примене зависи од мишићне масе која се смањује и присуства масног тки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E2DD-F6B6-43BA-AC96-B55DBF1FFC1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BB75-C432-431C-A760-C65A002DB0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ФАРМАКОКИНЕТСКЕ СПЕЦИФИЧНОСТИ КОД СТАРИЈИХ ЉУДИ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Дистрибуција: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тарењем, садржај воде у организму опада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мањује се мишићна маса 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ећава проценат ма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акутним болестима лако долази до пада албумина у серуму, што може да има за последицу повећање слободне фракције лекова у плазми и појачан ефекат лекова, нпр фенитои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75CA-03A3-4B34-88DE-7B361CC49D0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79BC-6742-49F2-B058-7F042617E1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Фармакокинетичке промене код старији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етаболиза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у јетр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 због смањења функције јетре, може бити успорен метаболизам лекова у јетр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дивидуалне особености у погледу метаболичког потенцијала јетре се разликују од особе до особе, а најизраженији је ефекат на концентрацију оних лекова који подлежу метаболизму првог проласка кроз јетру (пропранолол, верапамил), па почетне дозе оваквих лекова у старијих треба редуковати за 30%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6A3C-D35F-4F48-9BFB-B49B18B945A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4DF1-001D-4227-A0B1-2D5366A052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2060280"/>
            <a:ext cx="86104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једини лекови се у јетри метаболишу у фармаколошки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активне метаболит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и уколико је елиминација ових метаболита преко бубрега успорена, може доћи до акумулације оваквих лекова (бензодиазепини, антидепресиви, антипсихотици, опиоидни аналгетици) и појаве токсичних ефека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0672-2AD2-4250-9A13-595FFBE84AF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1FB0-0F49-4809-9455-088E681D26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Елиминациј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еко бубрег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 Старењем, у бубрезима се одвијају промене које доводе до смањења бубрежног паренхима, редукције гломерулске и тубулске функције, као и до смањења циркулације крви у бубрезим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чни значај ових промена у функцији бубрега, зависи од тога у којој мери бубрези учествују у елиминацији леков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8002-FD87-49E5-A330-6E53C368A09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6CA7-532C-4680-9EC0-DC46186357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610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ако је код старијих људи, токсичност лекова који се искључиво излучују преко бубрег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дигоксин, аминогликозиди, каптоприл, прокаинамид) значајно повећан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spcBef>
                <a:spcPts val="5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ехидратација болесника или прекомерне дозе диуретика, такође, могу да доведу до смањења елиминације свих лекова који се излучују преко бубрег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E441-64CA-4FCB-AE8E-231CB5DC2C9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03E1-A1EF-4B44-B689-5CA1E94C29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ЕКОВИ И ТРУДНОЋ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отреба лекова у трудноћи може бити ризичн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бог потенцијалних штетних ефеката на фетус који се развија ин утеро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бог штетног утицаја на циркулацију крви у плаценти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бог утицаја на повећану контрактилност утеруса и измењеног физиолошког стања мајк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3DE8-8F9E-48BB-8773-F4F80C6BC0C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40E8-630B-4867-B324-F42B6BF400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вако давање лека трудници може утицати на плод, директно или индиректно. Лекови као и фактори средине могу имати за последицу абнормалан развој плода тј. тератогени ефека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ратогеност може проузроковати конгениталне аномалије (веће или мање малформације или функционалне абнормалност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ко 25% поремећаја интраутериног развоја може бити последица генетске предиспозиције, а сматра се да су 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% случајева последица употребе лекова у току трудноћ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6DD4-1311-4C00-A3B9-E19684EF67E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A454-2CFF-4A4F-9312-CD0CA832F5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ичина лека која долази до фетуса ин утеро, зависи од многих фактора, који могу варирати од труднице до труднице и који углавном зависе од гестацијског пери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цента не штити плод од ефеката свих лекова. Лекови, чија је молекулска  тежина мања од 400 Далтона, пролазе много брже ову баријеру, од високо нејонизованих и липофилних лек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о је молекулска тежина већине лекова између 250 и 400 Далтона, постоји могућност њихове пенетрације кроз плаценту и продирања у феталну циркулациј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7A3A-5FAC-40B6-8254-90D710DD17B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DE64-9E46-40FF-A9D4-3C3FAAD861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 пролазак лекова кроз плаценту такође утичу следећи фактор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тепен везивања за протеине плазм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ток крви кроз мајчин организам и фету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положива површина плаценте преко које се врши размена крви 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таболичке активности плацент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E9DA-A8A8-481E-8948-DC811F9C611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CCE9-899A-422A-973E-1B5EA688F3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0010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ПРОПИСИВАЊЕ ЛЕКОВА У  ДЕЧЈЕМ УЗРАСТУ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00100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Елементи које мора узети у обзир лекар који се одлучи за примену лекова код деце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Лекар треба да тежи да користи, кад год је могуће, лекове који су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испитани и лиценцирани за примену код деце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. Уколико то није могуће, сме се применити, са посебним опрезом, нелиценциран лек, под контрол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Лекар мора да изврши адекватан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избор лека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, у погледу фармакодинамске и фармакокинетске прилагођености одговарајућем узрас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Треба да изабере оптимални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пут апликације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лека код дец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A4E9-164E-42C6-956B-65997DEE48C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648C-48E7-45A5-84AE-4D28B8ACDA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јвећи број лекова пролази кроз плаценту простом дифузиј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обзиром да проста дифузија зависи од степена концентрације, серумска концентрација лека у фетусу обично је једнака мајчино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им у којем лекови пролазе кроз плаценту варира и многи лекови достижу концентрацију у фетусу од 50%, па чак и преко 100% концентрације лека у крви мајк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464F-0A87-4E03-9908-25D45EFD2A2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EE7B-5EE9-457E-A492-F3147D3F27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лучивање лекова од стране фетуса превасходно се обавља преко феталне јетре и плацент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д фетуса клиренс може бити спорији него код одраслих здравих особ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C66B-591A-450D-8A23-E28E07298A0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CDFA-FC20-4122-9B6F-B2565CACE0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ришћење лекова у одмаклој трудноћи може имати утицаја на порођај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пр. узимање салицилата може изазвати повећано крварење на порођају, или чак одлагање почетка порођаја, због снижене концентрације простагландина и превременог затварања дуктуса артериозус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B719-4458-4F8D-9FF6-6E36E67BFC0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384C-5970-4BA3-883A-6DE66C11C3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 би се избегли нежељени тератогени и/или ембриотоксични ефекти, неопходно је да сви лекови, који носе било какав ризик по плод, а користе се у трудноћи, садрж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информације са таквим упозорење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D8F6-AC60-4C6A-AEF2-EF2F0417DA6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F01A-819A-4811-9DBE-8A0B95C547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ФД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генција за храну и лекове САД сврстава лекове у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ет категориј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које указују на потенцијал системски ресорбованих лекова да проузрокују дефект новорођенчет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ључна диференцијација према категоријама заснована је на степену поузданости документације и односу користи и ризика од примене једног лека у трудноћ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448F-B5B3-4864-B205-41434379558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CBE1-22CF-4CEF-92C0-6C040E2853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Категорије лекова по дефиницији</a:t>
            </a:r>
            <a:r>
              <a:rPr b="1" lang="sr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Америчке</a:t>
            </a:r>
            <a:r>
              <a:rPr b="1" lang="sr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Савезне управа</a:t>
            </a:r>
            <a:r>
              <a:rPr b="1" lang="sr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за храну и</a:t>
            </a:r>
            <a:r>
              <a:rPr b="1" lang="sr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лекове</a:t>
            </a:r>
            <a:r>
              <a:rPr b="1" lang="sr-C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r-CS" sz="1900" spc="-1" strike="noStrike">
                <a:solidFill>
                  <a:srgbClr val="000000"/>
                </a:solidFill>
                <a:latin typeface="Times New Roman"/>
              </a:rPr>
              <a:t>ФДА</a:t>
            </a:r>
            <a:r>
              <a:rPr b="1" lang="sr-CS" sz="1900" spc="-1" strike="noStrike">
                <a:solidFill>
                  <a:srgbClr val="000000"/>
                </a:solidFill>
                <a:latin typeface="Verdana"/>
              </a:rPr>
              <a:t>):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Група А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- лекови за које је у контролисаним клиничким студијама показано да је њихова примена током целе трудноће безбед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Група Б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- лекови који на животињама нису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показали штетно дејство на плод, али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нема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контролисаних студија на људима, ил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лекови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који на животињама показују штетно дејство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на плод, али контролисане клиничке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студије на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трудницама нису показале ризик по 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плод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4BA6-9203-41DD-B390-E776FDA2E48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9671-9F18-4200-9776-74BD0C8B2D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00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1900" spc="-1" strike="noStrike">
                <a:solidFill>
                  <a:srgbClr val="000000"/>
                </a:solidFill>
                <a:latin typeface="Verdana"/>
              </a:rPr>
              <a:t>Група Ц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 - студије на животињама су показале да лек 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има штетно дејство на плод, а нема контролисаних 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студија на људима,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ема студија ни на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животињама ни на људим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Група Д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- постоје докази за ризик по фетус човека, али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е лек у случају да је ризик од ускраћивања терапије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још већи, може применит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Група </a:t>
            </a:r>
            <a:r>
              <a:rPr b="1" lang="pl-PL" sz="19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- студије на животињама или људима су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казале појаву конгениталних аномалија или је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актично примена лека показала штетно дејство на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лод, у трудноћи тако да ризик јасно превазилази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орист од примене тог лека. Лекови из ове групе су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псолутно контраиндиковани за примен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539280" y="981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Категорије лекова по дефиницији Америчке Савезне управа за храну и лекове (ФДА)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5C3F-9299-41DF-B2BC-DD8734936EA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47D4-F074-4F1A-81D6-72CA4E9CA2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знато је да у првом триместру (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1.триместар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), лекови могу изазвати урођене малформације (тератогенеза), а ризик је, вероватно, највећи између треће и једанаесте недеље трудноћ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сим тога, лекови примењени у току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2. и 3. триместр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могу довести до поремећаја раста и развоја органа фетуса, а уколико се примене непосредно пред порођај или у току порођаја, постоји опасност непредвиђених догађаја самог порођаја као и исхода по новорођенч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6644-8815-40B0-8434-E6C366EEC79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DF4F-1611-4C56-B2F3-1C55050E97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оком првог триместра требало би избегавати примену било којег ле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 избору лека требало би се одлучити за лекове који су до сада често прописивани у трудноћи и за које се показало да су углавном нешкодљив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аквим лековима требало би дати предност над новим, неиспитани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век би требало применити најмању делотворну доз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F01F-3A09-4908-A487-6BB7EFB1D78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5276-6C91-41B0-ABA5-E58F4651FD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ЛЕКОВИ И ДОЈЕЊЕ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на неких лекова (нпр. ерготамина) код дојиља може изазвати низ нежељених реакција код дојенчета док примена других (нпр. дигоксин) има мали ефекат на дете, тако да је врло важно имати у виду ту чињеницу и предузети све потребне мере да дојиља, у случају потребе, примењује само ефикасне, квалитетне и по новорођенче сигурне лекове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84D5-FFA3-477D-9D0A-17C53463F6B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A04C-80B3-4DB4-8AF0-E3D0665D89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8560" y="765000"/>
            <a:ext cx="878508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Verdana"/>
              </a:rPr>
              <a:t>Отежавајуће околности апликације лека у одређеним узрастима су следеће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9840" y="2421000"/>
            <a:ext cx="871380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У узрасту превремено рођеног и новорођеног детета, не постоји стабилност ресорпције лека примењеног оралним путе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Интрамускуларна примена је ограничена малом мишићном мас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Интравенски пут захтева велику мануелну вештину оног ко примењује ле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Лекар мора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а познаје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стање функције органа који су укључени у промет ле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D518-A803-4F7D-9C8E-AC8CC3D1F30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220B-7B9E-4C23-9BDB-520A85AE90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знато је да неки лекови и њихова знатнија концентрација у млеку могу довести до токсичних ефеката код дојенчет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след свог фармаколошког ефекта одређени лекови могу инхибирати рефлекс сисања код дојенчета (нпр. фенобарбитал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D027-9DE5-4875-89CB-1E4510848E2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FC06-0746-4F62-A276-9C7E6D6789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0920" y="177300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 већину лекова  нема још довољно података који би омогућили јасну процену о сигурности примене лека код мајке која доји,  па је битно имати у виду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3213000"/>
            <a:ext cx="800100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описивање и примену лекова код дојиље треба ограничити само на ургентне ситуациј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ко постоји потреба за терапијом леком за који се сматра да није безбедан, треба саветовати избегавање дојењ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 престанку коришћења лека, дојење наставити тек после потпуне сигурности да нема неповољних ефеката по новорођенч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762120" y="1523880"/>
            <a:ext cx="80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AB81-4555-4E8A-AAB9-0F003C83327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89FC-2AB9-4601-9CB4-E4DE175087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ЕКОВИ И БОЛЕСТИ ЈЕТР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блеми који се могу појавити применом лекова код болесника са обољењима јетре зависе од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роде и степена оштећења јетре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рмаколоших 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рмакокинетских особина појединих леко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F77C-9615-44A9-9E6D-ED4BF785013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B895-A6DC-4B8A-9466-BB794BAF51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д обољења јетре не постоји једноставан тест којим би се могла проценити њена функција и на основу те процене извршити прилагођавање доза појединих лекова који се примењују истовремено, нарочито оних који се у највећем проценту метаболишу путем јетр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нцентрација албумина у серуму и протромбинско време омогућавају добру процену метаболичке функције јетре док вредности АСТ, АЛТ и алкалне фосфатазе најчешће не дају поуздане податке о стању функције јетре него могу указати на степен остећења хепатоцит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6C19-437E-4968-A196-A133160A4C7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3DF4-BED5-49BC-ACA0-592EFE0B9D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052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hild-Pugh score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66640" y="990720"/>
          <a:ext cx="8001000" cy="3870360"/>
        </p:xfrm>
        <a:graphic>
          <a:graphicData uri="http://schemas.openxmlformats.org/drawingml/2006/table">
            <a:tbl>
              <a:tblPr/>
              <a:tblGrid>
                <a:gridCol w="1947960"/>
                <a:gridCol w="1055520"/>
                <a:gridCol w="3032280"/>
                <a:gridCol w="1965240"/>
              </a:tblGrid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a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a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a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a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aadd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6699"/>
                          </a:solidFill>
                          <a:uFillTx/>
                          <a:latin typeface="Verdana"/>
                          <a:ea typeface="Times New Roman"/>
                          <a:hlinkClick r:id="rId1"/>
                        </a:rPr>
                        <a:t>Total bilirub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μmol/l (mg/d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34 (&lt;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-50 (2-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50 (&gt;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336699"/>
                          </a:solidFill>
                          <a:uFillTx/>
                          <a:latin typeface="Verdana"/>
                          <a:ea typeface="Times New Roman"/>
                          <a:hlinkClick r:id="rId2"/>
                        </a:rPr>
                        <a:t>Serum albumi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PT I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1-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Asci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Hepatic encephalopat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 I-II (or suppressed with medic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 III-IV (or refrac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40"/>
          <p:cNvSpPr/>
          <p:nvPr/>
        </p:nvSpPr>
        <p:spPr>
          <a:xfrm>
            <a:off x="604440" y="4799880"/>
            <a:ext cx="769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ronic liver disease is classified into Child-Pugh class A to C, employing the added score from abov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905120" y="5181480"/>
          <a:ext cx="4572000" cy="1540080"/>
        </p:xfrm>
        <a:graphic>
          <a:graphicData uri="http://schemas.openxmlformats.org/drawingml/2006/table">
            <a:tbl>
              <a:tblPr/>
              <a:tblGrid>
                <a:gridCol w="685800"/>
                <a:gridCol w="533160"/>
                <a:gridCol w="1600200"/>
                <a:gridCol w="1752840"/>
              </a:tblGrid>
              <a:tr h="621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aad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aad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e year survi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aad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wo year survi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aadd"/>
                    </a:solidFill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002060"/>
                </a:solidFill>
                <a:latin typeface="Verdana"/>
              </a:rPr>
              <a:t>MELD scor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Verdana"/>
              </a:rPr>
              <a:t>Користи се за процену стадијума цирозе у односу на вредности креатинина, билирубина и ИНР-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000" spc="-1" strike="noStrike">
                <a:solidFill>
                  <a:srgbClr val="000000"/>
                </a:solidFill>
                <a:latin typeface="Verdana"/>
              </a:rPr>
              <a:t>MELD scor</a:t>
            </a:r>
            <a:r>
              <a:rPr b="0" lang="sr-Latn-RS" sz="3000" spc="-1" strike="noStrike">
                <a:solidFill>
                  <a:srgbClr val="000000"/>
                </a:solidFill>
                <a:latin typeface="Verdana"/>
              </a:rPr>
              <a:t>=0,95 x Log</a:t>
            </a:r>
            <a:r>
              <a:rPr b="0" lang="sr-Latn-RS" sz="3000" spc="-1" strike="noStrike" baseline="-25000">
                <a:solidFill>
                  <a:srgbClr val="000000"/>
                </a:solidFill>
                <a:latin typeface="Verdana"/>
              </a:rPr>
              <a:t>e </a:t>
            </a:r>
            <a:r>
              <a:rPr b="0" lang="sr-Latn-RS" sz="3000" spc="-1" strike="noStrike">
                <a:solidFill>
                  <a:srgbClr val="000000"/>
                </a:solidFill>
                <a:latin typeface="Verdana"/>
              </a:rPr>
              <a:t>(kreatinin mg/dL)+0,378 x Log</a:t>
            </a:r>
            <a:r>
              <a:rPr b="0" lang="sr-Latn-RS" sz="3000" spc="-1" strike="noStrike" baseline="-25000">
                <a:solidFill>
                  <a:srgbClr val="000000"/>
                </a:solidFill>
                <a:latin typeface="Verdana"/>
              </a:rPr>
              <a:t>e </a:t>
            </a:r>
            <a:r>
              <a:rPr b="0" lang="sr-Latn-RS" sz="3000" spc="-1" strike="noStrike">
                <a:solidFill>
                  <a:srgbClr val="000000"/>
                </a:solidFill>
                <a:latin typeface="Verdana"/>
              </a:rPr>
              <a:t>(bilirubin mg/dL)+1,120xLog</a:t>
            </a:r>
            <a:r>
              <a:rPr b="0" lang="sr-Latn-RS" sz="3000" spc="-1" strike="noStrike" baseline="-25000">
                <a:solidFill>
                  <a:srgbClr val="000000"/>
                </a:solidFill>
                <a:latin typeface="Verdana"/>
              </a:rPr>
              <a:t>e </a:t>
            </a:r>
            <a:r>
              <a:rPr b="0" lang="sr-Latn-RS" sz="3000" spc="-1" strike="noStrike">
                <a:solidFill>
                  <a:srgbClr val="000000"/>
                </a:solidFill>
                <a:latin typeface="Verdana"/>
              </a:rPr>
              <a:t>(INR)+O,64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7806-CCBF-4779-A261-3642146E20B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EE91-B276-4503-9C97-7977B141CB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8647-FCE4-43DC-9C07-29FFC1839DC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611E-1EAB-47FC-BC03-624010D072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 процесу прилагођавања доза лекова, које истовремено треба прописати болесницима са обољењима јетре, треба узети у обзир клиничку процену оштећења, као и фармакотерапијски профил лека кога треба применити, како би се извршила процена о неопходности примене лека упркос постојању обољења јетр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E579-1BAB-4EA4-9C92-830A67859FB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DCA2-E690-4324-B1F0-BDD3617567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280" y="177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Разлози промењеног дејства неких лекова услед присутних обољења јетре су вишеструки и своде се углавном на следеће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3141360"/>
            <a:ext cx="800100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оштећење функције хепатоцита доводи до смањења метаболичке способности јетр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рифампицин и фусидинска киселина излучују се преко жучи непромењени и може доћи до њихове кумулације у болесника са интра и екстрахепатичном жутицом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мањено излучивање жучи услед опструкције или поремећаја транспортних механиза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1154-423F-43F6-B0B0-7FE05078D22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B280-80AC-4AE9-89E3-6406DBEAE3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280" y="170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злози промењеног дејства неких лекова услед присутних обољења јетре су вишеструки и своде се углавном на следеће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3068640"/>
            <a:ext cx="914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6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цироза јетре и портална хипертензија као и хируршки захвати могу довести до смањења протока крви кроз јетр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след смањене синтезе албумина у јетри, односно хипопротромбинемије, смањено је везивање лекова за протеине плазме што може довести до токсичности оних лекова са високим процентом везивања за протеине плазме (фенитоин, преднизолон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A59E-008D-4E9B-8C0C-E48E1D7D480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F236-C79C-407E-BBEE-175414FB57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злози промењеног дејства неких лекова услед присутних обољења јетре су вишеструки и своде се углавном на следеће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80010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 algn="just">
              <a:lnSpc>
                <a:spcPct val="80000"/>
              </a:lnSpc>
              <a:spcBef>
                <a:spcPts val="400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оремећај механизма првог пролаза лека кроз јетру и последица тога  повећање биорасположив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мањена синтеза фактора коагулације која може за последицу имати продужење протромбинског времена и повећање осетљивости на оралне антикоагулансе (варфарин, фениндион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у болестима јетре неки лекови могу довести до оштећења церебралне функције и могу потенцирати церебралну енцефалопатију (сви седативи, опиоидни аналгетици, диуретици који доводе до хипокалијемије, лекови који доводе до констипације и др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6CD9-B2E3-4607-97AE-70FBF4EDB80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92E9-A712-494C-B9B7-D3AB73172C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9647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Посебности дечјег узраста код примене леко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2349360"/>
            <a:ext cx="80010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Деца се од одраслих разликују у погледу одговора на лекове, захваљујући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</a:rPr>
              <a:t>различитом степену зрелости рецепторских механизама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. Ако лек делује преко рецептора и различите сензитивности циљног ткива имају утицај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Код деце постоје, привидно, веома велике разлике дозирања лекова у поређењу са одраслима, због тога што деца имају физиолошки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</a:rPr>
              <a:t>већу количину ванћелијске течности, па лекови, који се дистрибуирају кроз ове средине, имају већи волумен дистрибуције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Уколико су лекови липосолубилни и који се редистрибуирају у масно ткиво (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изепам нпр.), тада постоји опасност од интоксикације у случајевима хипотрофичне дец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Деца, посебно недоношћад и новорођенчад, имају ограничене детоксификационе и елиминационе механизме (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</a:rPr>
              <a:t>функција јетре и бубрега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 и релативну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</a:rPr>
              <a:t>ензимску дефицијенцију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E695-0259-4FE5-9EFA-8943FDB8FBA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F3EC-EF0E-420D-92D9-20C2672E84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злози промењеног дејства неких лекова услед присутних обољења јетре су вишеструки и своде се углавном на следеће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2707920"/>
            <a:ext cx="8001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код болесника са болесном јетром, хепатотоксичност може бити зависна од дозе или непредвидива (идиосинкратска), односно, посредована различитим механизмима преосетљив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оксичност, зависна од дозе, испољава се већ код нижих доза лека, него што је то случај код болесника са нормалном функцијом јетре, а исто тако, лекови који изазивају идиосинкратску хепатотоксичност, то могу испољавати знатно чешће код болесника са оштећеном јетр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EA56-2394-4815-8A57-2434CE5C564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EAB6-5EDF-4AF7-B366-6671FA6872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иликом примене лекова код особа са оболелом јетром, треба се придржавати неколико принцип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Пошто се албумини стварају у јетри, њихова концентрација у крви ће бити снижена код обољења јетре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Зато треба </a:t>
            </a:r>
            <a:r>
              <a:rPr b="0" lang="sr-CS" sz="1700" spc="-1" strike="noStrike" u="sng">
                <a:solidFill>
                  <a:srgbClr val="000000"/>
                </a:solidFill>
                <a:uFillTx/>
                <a:latin typeface="Verdana"/>
              </a:rPr>
              <a:t>смањити дозу лекова који се у високом проценту везују за протеине плазм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(нпр. антидепресиви, нестероидни антиинфламаторни лекови, и др.), јер ће им у противном слободна фракција бити неуобичајено велика. Пошто је само слободна фракција лека активна, то значи да ће и ефекат таквих лекова бити много већи, уколико им се доза не смањ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Треба избегавати лекове који смањују коагулабилност крви, јер је синтеза фактора коагулације ионако смањена код обољења јетре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Такође не треба давати лекове који могу неким другим начином изазвати крвављење: нестероидне антиинфламаторне лекове, антиагрегационе лекове, селективне блокаторе преузимања серотонина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Избегавати примену лекова интрамускуларним путем, јер може доћи до настанка хематом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5AE8-99BD-4D5E-A4DB-0901C0FE901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0BA8-C3B6-42A4-B446-D9645137C0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иликом примене лекова код особа са оболелом јетром, треба се придржавати неколико принцип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Избегавати лекове са дејством на централни нервни систем (посебно седативе), јер они могу провоцирати ојаву хепатичке енцефалопатиј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Не давати лекове који доводе до ретенције течности (вазодилататори, нестероидни антиинфламаторни лекови, кортикостероиди), јер могу погоршати асцитес и едем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Ако је потребно ублажити болове код болесника са инсуфицијенцијом јетре, не треба давати нестероидне антиинфламаторне лекове (јер изазивају гастроинтестинално крвављење), нити опиоиде (јер се може изазвати енцефалопатија). Лек избора је у тој ситуацији </a:t>
            </a:r>
            <a:r>
              <a:rPr b="1" i="1" lang="sr-CS" sz="1900" spc="-1" strike="noStrike">
                <a:solidFill>
                  <a:srgbClr val="000000"/>
                </a:solidFill>
                <a:latin typeface="Verdana"/>
              </a:rPr>
              <a:t>парацетамол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7BEA-C58E-4E22-AA8A-C5467A48D54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C00D-84F6-4A23-868F-F39C58A133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ЛЕКОВИ И БОЛЕСТИ БУБРЕГ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описивање лекова болесницима који имају оштећену функцију бубрега, често изазива велике потешкоће из више разлога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могућност излучивања лека или његовог метаболита може изазвати токсичне ефект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сетљивост организма на неке лекове може бити повећана чак и када није поремећена функција елиминације (излучивањ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олесници са инсуфицијенцијом бубрега лошије подносе нежељена дејства леко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ки лекови губе своју ефикасност при оштећеној функцији бубрег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дукцијом дозе или употребом прикладнијег лека, могуће је избећи неке од наведених проблем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52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0BA3-CCDD-4D4E-88DC-C1E0B016287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FCF5-1B70-41C8-B2A5-8CC1C0561D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и одређивања доза лекова код болесника са оштећеном функцијом бубрега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иво бубрежне функције испод које је потребно смањити дозу лека, пре свега зависи од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оксичности лек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ао и од чињенице да ли се лек елиминише искључиво реналним путем или се делимично метаболише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CCDD-93B7-4297-A4DE-E61693EFF63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65EE-EC44-4902-B3BA-D9C3B11AB5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ко је могуће, код болесника са оштећењем бубрега требало би избегавати нефротоксичне лекове, будући да се могу очекивати теже последице нефротоксичности код стања код којих је већ смањена бубрежна резерв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0C62-D629-4B4A-BFB8-39F6962C7EB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8533-92AE-4B04-80E4-D79138CD9E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епоруке о дозирању лекова код болести бубрега заснивају се на тежини бубрежне инсуфицијенције  која се изражава величином гломеруларне филтрације (ГФ), а обично се мери клиренсом креатини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иво серумског креатинина може се такође користити као мера функције бубрега, али представља само грубу оријентацију уколико се не учини корекција у односу на старост болесника, телесну тежину и пол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4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A757-CEAA-48C1-8C48-E51BD1D9EE1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45EF-8D23-4430-931F-A93A477A14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Arial"/>
              </a:rPr>
              <a:t>Бубрежна инсуфицијенциј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финисање степена реналне инсуфицијенције, код појединих препарата се понекад разликује, па су наведене и вредности 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Гломеруларне филтрације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епен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ерумског креатинин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а поједине степене инсуфицијенције</a:t>
            </a:r>
            <a:r>
              <a:rPr b="0" lang="fr-FR" sz="2000" spc="-1" strike="noStrike">
                <a:solidFill>
                  <a:srgbClr val="000000"/>
                </a:solidFill>
                <a:latin typeface="CharterZ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550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267080" y="1752480"/>
          <a:ext cx="4648320" cy="4071960"/>
        </p:xfrm>
        <a:graphic>
          <a:graphicData uri="http://schemas.openxmlformats.org/drawingml/2006/table">
            <a:tbl>
              <a:tblPr/>
              <a:tblGrid>
                <a:gridCol w="1716120"/>
                <a:gridCol w="1430280"/>
                <a:gridCol w="1501920"/>
              </a:tblGrid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убрежна инсуфицијенциј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л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еатинин у серум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μ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а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-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-3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ре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-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-7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06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ш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‹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gt;</a:t>
                      </a: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sr-Latn-C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5CE2-1BC7-41F3-B76C-5BAC84BFE8F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DC2E-2BD3-41D5-BE8A-6FBE7FA0F8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Клиренс креатинина се може проценити на основу серумске концентрације креатинина, уз помоћ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600" y="1844640"/>
            <a:ext cx="8796240" cy="40989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Verdana"/>
              </a:rPr>
              <a:t>Кокрофт-Голтове формул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</a:t>
            </a:r>
            <a:r>
              <a:rPr b="1" lang="sr-CS" sz="1200" spc="-1" strike="noStrike">
                <a:solidFill>
                  <a:srgbClr val="000000"/>
                </a:solidFill>
                <a:latin typeface="Verdana"/>
              </a:rPr>
              <a:t>(140 – старост) х (телесна тежина у кг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Verdana"/>
              </a:rPr>
              <a:t>Клиренс креатинина</a:t>
            </a:r>
            <a:r>
              <a:rPr b="1" lang="sr-CS" sz="1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Verdana"/>
              </a:rPr>
              <a:t>(као фракција нормалног клиренса)                     </a:t>
            </a:r>
            <a:r>
              <a:rPr b="1" lang="sr-CS" sz="1200" spc="-1" strike="noStrike">
                <a:solidFill>
                  <a:srgbClr val="000000"/>
                </a:solidFill>
                <a:latin typeface="Verdana"/>
              </a:rPr>
              <a:t>(72 х серумска концентрација креатинин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од жена резултат формуле се множи са фактором 0.85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Line 4"/>
          <p:cNvSpPr/>
          <p:nvPr/>
        </p:nvSpPr>
        <p:spPr>
          <a:xfrm>
            <a:off x="3733920" y="30481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9CDA-8A65-43F1-BD1C-92C6A4EF073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353C-C7D1-4A04-9270-FD7D6EDF29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Дозирање лекова код пацијената са оштећеном функцијом бубрега</a:t>
            </a: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71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снива се н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тежини бубрежне инсуфицијенци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која се </a:t>
            </a:r>
            <a:r>
              <a:rPr b="1" lang="sr-CS" sz="2600" spc="-1" strike="noStrike" u="sng">
                <a:solidFill>
                  <a:srgbClr val="ff0000"/>
                </a:solidFill>
                <a:uFillTx/>
                <a:latin typeface="Arial"/>
              </a:rPr>
              <a:t>изражава величином гломеруларне филтрације (ГФ), а обично се мери клиренсом креатини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во серумског креатинина може се такође користити као мера функције бубрега, али представља само грубу оријентацију уколико се не учини корекција у односу на старост болесника, телесну тежину и по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1536-B2BE-4C37-8A5F-8F982F589E7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7800-C7B7-40F0-884B-57406DC477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18028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инамика развоја функција значајних за кретање лекова кроз организам дет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27432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Стварање киселине у желудцу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3 месе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Пражњење желудца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6 месец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Перисталтика црева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2 месе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Секреција жучних киселина и липазе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4 месе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Снижена секреција амилазе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4 месе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Реакције оксидације и деметилације у јетри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6 месец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Реакције редукције  и метилације у јетри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на рођењ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Гломеруларна филтрација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5 месец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Тубуларна секреција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6-9 месец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Проток крви кроз бубреге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12 месец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148360" y="2133720"/>
            <a:ext cx="350496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Старост у којој се достиже ниво функције одрасли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116000" y="2205000"/>
            <a:ext cx="32004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Функција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990720" y="37339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85800" y="6400800"/>
            <a:ext cx="640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Verdana"/>
              </a:rPr>
              <a:t>С.Јанковић: Основе клиничке фармације, Кг,201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C94B-1E8B-4D8C-97B5-E4765461C76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7B5C-52A4-44CC-B9FE-4D3A465445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а старошћу, бубрежна функција опада: код старијих болесника ГФ је нижа од </a:t>
            </a:r>
            <a:r>
              <a:rPr b="0" lang="fr-FR" sz="3000" spc="-1" strike="noStrike">
                <a:solidFill>
                  <a:srgbClr val="000000"/>
                </a:solidFill>
                <a:latin typeface="CharterZK"/>
              </a:rPr>
              <a:t> 50 mL/min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ја, обзиром на смањену мишићну масу не мора  увек да буде праћена повишеним нивоом серумског креатинина </a:t>
            </a:r>
            <a:r>
              <a:rPr b="0" lang="fr-FR" sz="3000" spc="-1" strike="noStrike">
                <a:solidFill>
                  <a:srgbClr val="000000"/>
                </a:solidFill>
                <a:latin typeface="CharterZ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оже се претпоставити да код старије популације постоји најмање блажи степен реналне инсуфицијенциј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751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8728-42D4-444B-9DDD-96C9F2183A1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680C-0CB7-4AEA-9829-6409902CA7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Посебно је важно одредити </a:t>
            </a: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праву дозу лека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код особа са бубрежном инсуфицијенцијом: 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она не сме бити ни превелика ни премал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Када су у питању лекови који се већим делом метаболишу до неактивних метаболита, а затим се ти исти метаболити само делом излучују преко бубрега, смањење дозе није неопходно у бубрежној инсуфицијенцији. То посебно важи за лекове са великом терапијском ширином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С друге стране, лекови који имају </a:t>
            </a:r>
            <a:r>
              <a:rPr b="0" lang="sr-CS" sz="2100" spc="-1" strike="noStrike" u="sng">
                <a:solidFill>
                  <a:srgbClr val="ff0000"/>
                </a:solidFill>
                <a:uFillTx/>
                <a:latin typeface="Verdana"/>
              </a:rPr>
              <a:t>уску терапијску ширину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 и који се већим делом излучују неизмењени урином, захтевају врло прецизно дозирање на основу клиренса креатинина болесника, а уз повремено мерење концентрације лека у серуму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716E-E6C5-48CA-B47E-88182BEC92C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E611-9073-4DAC-A626-F37F1C24E6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2" descr="empty"/>
          <p:cNvPicPr/>
          <p:nvPr/>
        </p:nvPicPr>
        <p:blipFill>
          <a:blip r:embed="rId1"/>
          <a:stretch/>
        </p:blipFill>
        <p:spPr>
          <a:xfrm>
            <a:off x="457200" y="5919840"/>
            <a:ext cx="7391520" cy="457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empty"/>
          <p:cNvPicPr/>
          <p:nvPr/>
        </p:nvPicPr>
        <p:blipFill>
          <a:blip r:embed="rId2"/>
          <a:stretch/>
        </p:blipFill>
        <p:spPr>
          <a:xfrm>
            <a:off x="457200" y="1347840"/>
            <a:ext cx="7391520" cy="457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empty"/>
          <p:cNvPicPr/>
          <p:nvPr/>
        </p:nvPicPr>
        <p:blipFill>
          <a:blip r:embed="rId3"/>
          <a:stretch/>
        </p:blipFill>
        <p:spPr>
          <a:xfrm>
            <a:off x="457200" y="2109960"/>
            <a:ext cx="7391520" cy="457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empty"/>
          <p:cNvPicPr/>
          <p:nvPr/>
        </p:nvPicPr>
        <p:blipFill>
          <a:blip r:embed="rId4"/>
          <a:stretch/>
        </p:blipFill>
        <p:spPr>
          <a:xfrm>
            <a:off x="457200" y="2871720"/>
            <a:ext cx="7391520" cy="457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empty"/>
          <p:cNvPicPr/>
          <p:nvPr/>
        </p:nvPicPr>
        <p:blipFill>
          <a:blip r:embed="rId5"/>
          <a:stretch/>
        </p:blipFill>
        <p:spPr>
          <a:xfrm>
            <a:off x="457200" y="3633840"/>
            <a:ext cx="739152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empty"/>
          <p:cNvPicPr/>
          <p:nvPr/>
        </p:nvPicPr>
        <p:blipFill>
          <a:blip r:embed="rId6"/>
          <a:stretch/>
        </p:blipFill>
        <p:spPr>
          <a:xfrm>
            <a:off x="457200" y="4395960"/>
            <a:ext cx="73915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empty"/>
          <p:cNvPicPr/>
          <p:nvPr/>
        </p:nvPicPr>
        <p:blipFill>
          <a:blip r:embed="rId7"/>
          <a:stretch/>
        </p:blipFill>
        <p:spPr>
          <a:xfrm>
            <a:off x="457200" y="5157720"/>
            <a:ext cx="7391520" cy="4572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532720" cy="50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Verdana"/>
              </a:rPr>
              <a:t>Уместо закључ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3" name="Picture 10" descr="creation_day_7_number_ge_01"/>
          <p:cNvPicPr/>
          <p:nvPr/>
        </p:nvPicPr>
        <p:blipFill>
          <a:blip r:embed="rId8"/>
          <a:stretch/>
        </p:blipFill>
        <p:spPr>
          <a:xfrm>
            <a:off x="228600" y="5867280"/>
            <a:ext cx="299880" cy="457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creation_day_1_number_ge_02"/>
          <p:cNvPicPr/>
          <p:nvPr/>
        </p:nvPicPr>
        <p:blipFill>
          <a:blip r:embed="rId9"/>
          <a:stretch/>
        </p:blipFill>
        <p:spPr>
          <a:xfrm>
            <a:off x="228600" y="1371600"/>
            <a:ext cx="201600" cy="457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creation_day_2_number_ge_01"/>
          <p:cNvPicPr/>
          <p:nvPr/>
        </p:nvPicPr>
        <p:blipFill>
          <a:blip r:embed="rId10"/>
          <a:stretch/>
        </p:blipFill>
        <p:spPr>
          <a:xfrm>
            <a:off x="228600" y="2057400"/>
            <a:ext cx="228600" cy="4604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creation_day_5_number_ge_01"/>
          <p:cNvPicPr/>
          <p:nvPr/>
        </p:nvPicPr>
        <p:blipFill>
          <a:blip r:embed="rId11"/>
          <a:stretch/>
        </p:blipFill>
        <p:spPr>
          <a:xfrm>
            <a:off x="228600" y="4419720"/>
            <a:ext cx="277920" cy="4572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creation_day_6_number_ge_01"/>
          <p:cNvPicPr/>
          <p:nvPr/>
        </p:nvPicPr>
        <p:blipFill>
          <a:blip r:embed="rId12"/>
          <a:stretch/>
        </p:blipFill>
        <p:spPr>
          <a:xfrm>
            <a:off x="228600" y="5105520"/>
            <a:ext cx="258840" cy="457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creation_day_3_number_ge_01"/>
          <p:cNvPicPr/>
          <p:nvPr/>
        </p:nvPicPr>
        <p:blipFill>
          <a:blip r:embed="rId13"/>
          <a:stretch/>
        </p:blipFill>
        <p:spPr>
          <a:xfrm>
            <a:off x="228600" y="2819520"/>
            <a:ext cx="281160" cy="4572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creation_day_4_number_ge_01"/>
          <p:cNvPicPr/>
          <p:nvPr/>
        </p:nvPicPr>
        <p:blipFill>
          <a:blip r:embed="rId14"/>
          <a:stretch/>
        </p:blipFill>
        <p:spPr>
          <a:xfrm>
            <a:off x="228600" y="3505320"/>
            <a:ext cx="28116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17"/>
          <p:cNvSpPr/>
          <p:nvPr/>
        </p:nvSpPr>
        <p:spPr>
          <a:xfrm>
            <a:off x="990720" y="1347840"/>
            <a:ext cx="5715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отребно је за све пацијенте примењивати принципе обезбеђења рационалне терапиј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990720" y="2124000"/>
            <a:ext cx="5715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ваком пацијенту обезбедити ПРАВИ лек према његовим медицинским потребама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990720" y="2900520"/>
            <a:ext cx="571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У правој доз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1066680" y="3676680"/>
            <a:ext cx="5639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Довољно дуго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990720" y="4452840"/>
            <a:ext cx="571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а прави начин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914400" y="5229360"/>
            <a:ext cx="624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ршити процену користи и ризика од примене лека</a:t>
            </a:r>
            <a:r>
              <a:rPr b="1" lang="sr-CS" sz="18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914400" y="6005520"/>
            <a:ext cx="5791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Чиме се постиже и прави резулта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задовољан пацијент , фармацеут и лека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4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D8D9-2971-4F3B-BA4C-D514542F469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268F-8124-4F46-920D-87722FD184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9625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Verdana"/>
              </a:rPr>
              <a:t>Let’s talk about medicine?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34EE-5912-48C9-8DC9-684E8F8368D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3C07-68CD-43BB-8542-7BF35B998C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Критични периоди детињства у погледу примене лекова</a:t>
            </a: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 (дозирања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2743200"/>
            <a:ext cx="85676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05000" indent="-395280">
              <a:lnSpc>
                <a:spcPct val="80000"/>
              </a:lnSpc>
              <a:spcBef>
                <a:spcPts val="524"/>
              </a:spcBef>
              <a:spcAft>
                <a:spcPts val="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Новорођенче - н</a:t>
            </a: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еонатални период</a:t>
            </a: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: првих 30 дана након рођењ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524"/>
              </a:spcBef>
              <a:spcAft>
                <a:spcPts val="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spcAft>
                <a:spcPts val="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Дојенче : од 1 месеца до 2 године живо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524"/>
              </a:spcBef>
              <a:spcAft>
                <a:spcPts val="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spcAft>
                <a:spcPts val="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ало дете</a:t>
            </a: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: од 2 године до 12 годин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524"/>
              </a:spcBef>
              <a:spcAft>
                <a:spcPts val="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( деца до 6 година – посебни фармацеутски облиц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524"/>
              </a:spcBef>
              <a:spcAft>
                <a:spcPts val="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spcAft>
                <a:spcPts val="51"/>
              </a:spcAft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долесценти</a:t>
            </a: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: од 12 до 18 годин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941720"/>
            <a:ext cx="255600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8A71-4490-415F-91B5-CBE27F2260C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E211-A0C0-4013-8DF2-7A36A265CD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1" lang="sr-CS" sz="3700" spc="-1" strike="noStrike">
                <a:solidFill>
                  <a:srgbClr val="000000"/>
                </a:solidFill>
                <a:latin typeface="Verdana"/>
              </a:rPr>
              <a:t>доношче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имају физиолошки висок садржај екстра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елијске течности и до 85% (у поређењу са одраслим код којих је 65%)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имају ниску екскрециону способност бубрега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низак ниво албумина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присуство различитих ендогених супстанци које могу интерферирати са лековима, или имати компетитивни однос, имају нестабилну унутрашњу хомеостазу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мали садржај масног ткива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малу мишићну масу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и још других физиолошких специфичности које захтевају изузетну опрезност у примени лекова у овом узраст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beb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48560" y="0"/>
            <a:ext cx="23954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9-09-12T21:37:21Z</dcterms:modified>
  <cp:revision>19</cp:revision>
  <dc:subject/>
  <dc:title>Slide 1</dc:title>
</cp:coreProperties>
</file>